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961D-1479-4EDF-BBC0-E676185B1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9541-3D89-49F7-81C6-EB732B91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8DDEE5-BAAD-4049-9B17-F272E3B5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C510D4-0F6C-4927-8A07-6045F801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990720" y="274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71CDB-F969-40E2-9E0C-88250611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089333-0470-4BFD-8902-2FB44EF8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3EBA4-60C2-4F42-BF48-F9715C16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839D7-73B4-48F5-AC5F-0237DA97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57EF0B-6C59-4274-A0CB-2E323D04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27B0C-1235-4E56-B57F-10DB2AD7A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535AF-1DD6-471B-B9E8-2BA186E1D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8EE9-F4AE-49CB-BBF9-53839D651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30F4-6B48-45C3-8D07-351F09635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B061-12A8-4E3C-96F5-40AE551A8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9CF3-944D-4366-8FD1-17E2C09A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7476-7322-42EC-8AF5-FDC70F02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4EC7-0ABB-4CE7-9CCB-F6BCA7EA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49BE-2B9A-436B-9F80-092DC58C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274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D802-B0D4-44C7-94B0-2AB26C39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8896-05C0-46F0-B6EC-7EE7B2A1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F24E-1A51-4F02-B5D7-406C9D88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1B60-037B-433D-A97D-B2ACF1B3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D8F8-9033-4982-9B92-95243576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4DAF-A37D-4F21-A80C-2DBFEA02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0EE2-05E2-450F-843D-84AB3D1DD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FA11-F591-4C69-A27D-B8400E916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0A9AA-39B9-4641-9552-96B9B7ED1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3D369-788A-4AC3-A701-BCFCD595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5C4BB-1627-4CA8-903F-64E9CA7B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F8870-A267-49DB-95D1-3CE274C7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BEF49-60ED-4566-9261-B9FC93A5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C46D-2E4E-4607-AD6E-026196C9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90720" y="274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1F509-57BF-44FF-A7F6-A6104F9B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1CB41-1B77-41D0-AC77-D52EE203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2AC9D-76D3-4B65-9E37-79823C0F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87D7C-AD24-4A39-8260-B4D34081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C9A6B-1605-4315-87A5-A6CBCC48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46681-6F64-444E-A20F-4FA31A9C9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3D534-F8E8-450D-95E6-C30819D97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B2A2E-7E78-42B0-A3C3-D5A5D9D6D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F0C07-7B96-41D6-91AE-923E3DAF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40DC3-2403-4C2C-9A14-C1C9728E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9E7D-B595-4070-B447-8D3A8649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28B66-3C2C-49AA-B0D1-1010C2D3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ABC40-B68F-40D0-9FE0-691CE8AC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90720" y="274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DAA9A-0813-42E3-8375-611BA8D3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6E3C6-0321-4A3D-9373-FDF15D79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53B37-30BE-49D8-B99B-DAF0A246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101B6-34ED-4770-899F-21832D8D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9DE85-E57C-48BA-AA46-7BA59FD8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C7C6A-AEE5-49F2-ADAF-DBADB7480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32B62-7251-473E-A138-67ACA2005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755BB-E82C-4237-9075-C25C1047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435C-4456-41BC-A480-BD54E863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336A4-93EC-4D7D-AC9D-90DE86C0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C758D-28B5-4D7F-A8B6-34F4C7C9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F44B6-1A27-42E6-AE0D-412C6DC3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52445-9F34-47AC-BA31-24F7B31F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990720" y="274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FC2EF-3A2C-40DB-8B61-8AB306FD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1CD84-5015-45AF-B20E-E0DAC1CD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5CCFA-3C0E-4F9A-9855-C03CF896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31838-B8EF-489A-BCE0-0360B31A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B9B7C-C283-4A96-83CF-FD095083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7726D-7F60-4032-BFCA-0487C9F38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274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12E7-B886-42A9-89E3-F6F1B19E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B1E63-C800-46BB-877F-D00577123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C5331-AC12-4A1E-B791-F4D405BFC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FA609-5246-4661-B3AC-FE54910D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3A92F-414F-45E6-B594-39504FB5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E5260-B5FC-42CE-A9BE-D2BEC3A4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5E45D-FB2C-4BEE-93EF-DF728AC3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90720" y="274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202C5-AF62-4F97-B91A-BF20CEE4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1E3AC-6793-46EF-9465-316BA8A4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98FE7-B76A-4889-891A-62A5E51E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0AF98-C73C-4763-9606-33405EE5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C182-63A3-4A88-9555-C035754A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25B83-65F2-43DF-B6FE-9DB76863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5EBAD-B92F-4E6C-9D4D-BAD80736C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EF032-CDB1-4768-820B-C6C99ACC5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B7983-C542-4195-AE3F-125BFC743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5CEA6-664C-4309-9E17-BB0B99A9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F626B-4788-45EC-BF8E-B5F02934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45B87-5F0F-4856-B557-0D538DE4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3C9BC-F287-4903-AB56-73D52F52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990720" y="274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22B17-30CD-4E70-A7C8-0B376759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AB56E-9CDE-46B6-830F-B8CF2685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4AF0-7372-4BD4-8BE3-B3BD3810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A4FDF-3718-4210-9FDC-793DAC42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822A8-5663-44D8-AF08-547BC921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2E0F0-F6DB-4F0A-9D92-4F3FF45A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A6E97-ABE4-4FB1-A0DE-E2E9B1598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A4C2D-9056-4120-821B-90ED5BD91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73F5E-4052-4365-ABE9-60A95B3A5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DCF78-B1CF-44F6-83F1-73C83836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3E7E2-C986-4C21-96F6-ADEB710B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E8C3E-6765-4C3F-AA4F-141200FD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BA94D-205A-470C-AE48-35A56BBF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52FE-F486-44D2-95CB-F3A31DB1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990720" y="274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004D3-0876-4C0A-9360-65E8D9EC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AEFBF-0CFB-47CC-8A5C-67938172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94CFA-593B-419E-802F-3D7E4930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F42D0-C802-4F07-BF20-6772FFFF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D756A-9FCA-4338-9E75-D721E292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07E61-06CC-4CDD-8FC4-A1C4E2F2E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28C09-DC47-4523-8145-5198EA2D8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1085A-3F41-4F02-B0A6-150B371BC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23998-623D-4690-8F07-B29A601A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FA969-C985-41F5-B1D4-7084B063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C57E-75B6-4141-AE53-CDBD57DFC8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Click to edit the title text format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C13E-CD14-4CBD-9EA7-70B270C04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5ADE-1803-4387-ACB3-11E16E36B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583C-06F5-47C7-8155-0850C62EA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78AF-E67E-4FE3-AB6C-1B3C2621E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8427-3A2D-456C-8B7E-BB6B98781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25B0-6BA9-4DD6-A2B6-4FFA5CE776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9009-8DB7-4414-AC77-28A4DA8B5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0147-5C11-4B0B-8565-664423BD5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3.4: Transformations of Graphs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ary 30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Vertical stretching and shrinking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 or divide the entire function to shrink or stretch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begin with y=f(x), you will end up with y=c*f(x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3657600" y="1828800"/>
            <a:ext cx="42861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Horizontal stretching and shrinking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 with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to y=f(c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is the amount of shrinking or stre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rcRect l="5334" t="-1969" r="5780" b="0"/>
          <a:stretch/>
        </p:blipFill>
        <p:spPr>
          <a:xfrm>
            <a:off x="4343400" y="1676520"/>
            <a:ext cx="38098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Reflection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67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flect across the x-axis, change y=f(x) to y= -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flect across the y-axis, change y=f(x) to y=f(-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2"/>
          <a:srcRect l="5230" t="0" r="5880" b="0"/>
          <a:stretch/>
        </p:blipFill>
        <p:spPr>
          <a:xfrm>
            <a:off x="4648320" y="1219320"/>
            <a:ext cx="3886200" cy="393372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3"/>
          <a:srcRect l="6976" t="0" r="5880" b="0"/>
          <a:stretch/>
        </p:blipFill>
        <p:spPr>
          <a:xfrm>
            <a:off x="4724280" y="1143000"/>
            <a:ext cx="38102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Try these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across each ax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4495680" y="1295280"/>
            <a:ext cx="33512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Summary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 with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 up: y=f(x)+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 down: y=f(x)-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 left: y=f(x+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 right: y=f(x-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rink or stretch vertically: y=c*f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rink or stretch horizontally: y=f(c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 across x-axis: y=-f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 across y-axis: y=f(-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Your assignment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229-2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-18 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-40 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Objectives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functions using vertical and horizontal transl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functions using stretching and shr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functions using refle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transform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Vertical shifts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original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or subtract from the whole function to shift up or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doesn’t alter the shape, just the pos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hift up 3, add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w function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5486400" y="1523880"/>
            <a:ext cx="31910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Another example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for linear equations to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2x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it up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it dow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4038480" y="2209680"/>
            <a:ext cx="329256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Try this one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4x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dow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33512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Horizontal shifts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hift right, replace x with (x-a), where a is the number of units you want to shi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hift left, replace x with (x+a), where a is the number of units you want to shi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2"/>
          <a:srcRect l="8714" t="0" r="5880" b="0"/>
          <a:stretch/>
        </p:blipFill>
        <p:spPr>
          <a:xfrm>
            <a:off x="4572000" y="1143000"/>
            <a:ext cx="3733920" cy="393372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3"/>
          <a:srcRect l="6976" t="-1931" r="5880" b="0"/>
          <a:stretch/>
        </p:blipFill>
        <p:spPr>
          <a:xfrm>
            <a:off x="4419720" y="1143000"/>
            <a:ext cx="380988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Try this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 with 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2x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3 to the 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1 to the le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33512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Complete in Him"/>
              </a:rPr>
              <a:t>Summary of vertical and horizontal shifts</a:t>
            </a:r>
            <a:endParaRPr b="1" lang="en-US" sz="48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 with 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hift up: y=f(x)+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hift down: y=f(x)-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hift right: y=f(x-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hift left: y=f(x+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Combining horizontal and vertical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left or right first, then up or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x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left 2 and up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17:08:52Z</dcterms:created>
  <dc:creator>nuhs</dc:creator>
  <dc:description/>
  <dc:language>en-US</dc:language>
  <cp:lastModifiedBy>nuhs</cp:lastModifiedBy>
  <dcterms:modified xsi:type="dcterms:W3CDTF">2008-01-30T17:54:22Z</dcterms:modified>
  <cp:revision>6</cp:revision>
  <dc:subject/>
  <dc:title>3.4: Transformations of Graphs</dc:title>
</cp:coreProperties>
</file>